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932AF-BCA8-496E-80CB-FEE1BB6F92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6766F-76A3-4C61-91CA-1624EBC0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313E-E51F-4A2E-ADC5-591B3D87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2088-8C08-4E4A-8F48-01B843170A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ADB1C-C1F3-406B-B669-86708A30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D73D-4794-4458-8FAC-A373E237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36E05-9BB4-4C3A-B339-E496BBF4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D216-C429-4763-8FBB-D9F63AA1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AA23-26DF-4AE2-AF14-BDE0EA8D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6EBD-3932-46B9-A758-F8EA4D44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2543-09B9-4F84-9179-F3A7864D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39D1-6657-4CBB-8D1B-A19D5055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10F2-C088-4C0C-8D10-609E21478C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360" y="2205000"/>
            <a:ext cx="43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5013360"/>
            <a:ext cx="381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体位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C091-BC07-4731-B1B7-E6D5319542A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81668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防或减轻痉挛和畸形的出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躯干和肢体保持在功能状态的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时变换体位有助于预防并发症的发生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294240" y="40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53CC-68E5-4F1B-8C3C-AD4241A8418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尽早进行体位摆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定时变换体位，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动作轻柔，保证患者安全；选择合适体位，避免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手、脚底不放置东西，预防足下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及时调整体位，保证患者舒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736960" y="477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124000" y="2998440"/>
            <a:ext cx="6121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二、常见疾病体位摆放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5F22-CB12-4DE8-8EF5-62503D814D6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健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4533840" cy="2725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F6BD-5EBA-4150-8B85-ACDEF7EB052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患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4591080" cy="2641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6391-8DBA-4E01-B3F2-85094173DEB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572000" cy="3017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5D36-B566-4E0C-A3C6-F43D71C8C02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658040" cy="2967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E512-0C12-4AD4-914A-9F327757394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Picture 4" descr="1"/>
          <p:cNvPicPr/>
          <p:nvPr/>
        </p:nvPicPr>
        <p:blipFill>
          <a:blip r:embed="rId1"/>
          <a:stretch/>
        </p:blipFill>
        <p:spPr>
          <a:xfrm>
            <a:off x="1547640" y="2708280"/>
            <a:ext cx="5905800" cy="3044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3D3F-13C8-41C5-BFF3-59EC776C046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46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功能位： 肩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外展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无内、外旋）；肘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前臂中间位你（无旋前、旋后）；腕关节背伸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并稍内收（即稍尺侧屈）；各掌指关节和指间关节稍屈曲，由示指至小指屈曲度有规律地递增；拇指在对掌中间位（即在掌平面前方，其掌指关节半屈曲，指间关节轻微屈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2725-545A-4D44-894D-6BF5E4903AF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781704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功能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髋伸直，无内、外旋，膝稍屈曲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~3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踝处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间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ts val="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体位摆放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见疾病体位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2360" y="1268280"/>
          <a:ext cx="8783640" cy="5480280"/>
        </p:xfrm>
        <a:graphic>
          <a:graphicData uri="http://schemas.openxmlformats.org/drawingml/2006/table">
            <a:tbl>
              <a:tblPr/>
              <a:tblGrid>
                <a:gridCol w="1282680"/>
                <a:gridCol w="3757680"/>
                <a:gridCol w="3743280"/>
              </a:tblGrid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烧伤部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可能出现的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抗挛缩体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头面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眼睑外翻，小口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戴面具，使用开口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颈前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去枕，颈部轻度伸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上提、后撤、内收、内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关节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~10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并外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前臂旋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关节处于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过伸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，掌弓变平（鹰爪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腕关节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及对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，腕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侧凸，脊柱后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、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关节中立伸展位：如大腿内侧烧伤，则髋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15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关节伸直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足趾屈并内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关节背屈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位，防止跟腱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53"/>
          <p:cNvSpPr/>
          <p:nvPr/>
        </p:nvSpPr>
        <p:spPr>
          <a:xfrm>
            <a:off x="5324400" y="404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烧伤患者抗挛缩体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E1DB-4890-4DAC-8A13-E3F7C34C07D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71320" y="1844280"/>
            <a:ext cx="8103960" cy="403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体位、良肢位、功能位、烧伤患者抗挛缩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注意事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常见疾病体位摆放方法  脑损伤患者的体位摆放（健侧卧位、患侧卧位、仰卧位）；脊髓损伤患者的体位摆放（仰卧位、侧卧位）；骨关节疾病患者的体位摆放（上肢功能位、下肢功能位）；烧伤患者体位摆放（身体各部位抗挛缩体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4515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36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岁，脑梗塞后左侧偏瘫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天，查体：神志清楚，生命体征稳定；左侧肌张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肌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不能自主翻身及体位移动，根据患者症状体征，早期进行康复护理介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请为患者进行良肢位摆放，并向患者及家属讲解其目的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9324-C1A3-4C82-9DCC-1471EB8FEB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628640"/>
            <a:ext cx="80643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体位、良肢位、功能位、抗挛缩体位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摆放的目的、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不同疾病体位摆放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针对不同疾病给予正确的体位摆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3640" y="2997000"/>
            <a:ext cx="52563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一、体位摆放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8408-D09A-4012-AE38-7EE45430C4F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body position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）是指人体所处的某种姿势或某种位置。在临床上是指根据患者病情，针对护理、治疗或者康复需要所采取的治疗性姿势或身体所摆放的位置。康复护理中常用的体位摆放技术有良肢位、功能位、烧伤患者抗痉挛体位的摆放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定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E5A2-5539-44D2-AA33-05EA0D511E4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18920" y="1917360"/>
            <a:ext cx="594684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良肢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功能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烧伤患者抗挛缩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见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ABEC-EB7C-4B0D-903E-D3CB7549FA2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234936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肢位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为预防和减轻痉挛姿势的出现，保护肩关节，早期诱发分离运动而设计的一种治疗体位。在脑损伤患者的康复护理中，良肢位摆放具有防止畸形，减轻症状，使躯干和肢体保持在功能状态的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547640" y="1486080"/>
            <a:ext cx="22622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良肢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5D92-E4D4-4E2A-8A3E-A4FAE9E1BA3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2000" y="2133360"/>
            <a:ext cx="8358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位  指当肌肉、关节功能不能或尚未恢复时，必须使肢体处于发挥最佳功能活动的体位。这种体位就称为功能位，临床上常采用绷带、石膏、矫形支具、系列夹板等固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1542960" cy="65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功能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5BEE-DA1E-4FC5-AF5A-81FC2676685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6720" y="2420640"/>
            <a:ext cx="8358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烧伤患者的抗挛缩体位  指烧伤患者应保持的正确体位，即应与烧伤部位软组织收缩方面相反的体位。这种体位有助于预防挛缩，因此在卧床期间应始终保持正确的体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763280" y="1557360"/>
            <a:ext cx="22338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521960" y="404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烧伤患者的抗挛缩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26:32Z</dcterms:modified>
  <cp:revision>1</cp:revision>
  <dc:subject/>
  <dc:title>   第五章  康复护理技术</dc:title>
</cp:coreProperties>
</file>